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3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520" y="87501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21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520" y="87501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23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00520" y="37944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3920" y="243828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- TRAVEL ADVANCE  FUNCTION       BLOCK NUMBER______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DUE                    LAST         U  ORDER   VOUCHER         RECL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DATE  EOR  APC   ODC   NAME   SSN   C  NUMBER  NUMBER  AMOUNT  WR-OFF IBOP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56200" y="380844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8720" y="533232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362320"/>
            <a:ext cx="0" cy="36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0" y="859788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25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00160" y="2055960"/>
            <a:ext cx="62852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2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6480" y="3656160"/>
            <a:ext cx="6148080" cy="132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TRAVEL ADV FUNCTION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A    SCR 0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LAST     U  ORDER   VOUCHER           RECLS/     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YEAR   EOR  APC ODC NAME SSN C  NUMBER   NUMBER   AMOUNT  WR-OFF  IBOP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_ _ ____  ___  ___ ___ ____ ___ _  ______   _______  ______  ___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0160" y="5103720"/>
            <a:ext cx="61480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6480" y="6558120"/>
            <a:ext cx="60796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7000" y="304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457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7621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1430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523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27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29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31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33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   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35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37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39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9440" y="2443320"/>
            <a:ext cx="6490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DOCUMENT     VOUCHER           #EMP       F 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NUMBER       NUMBER    AMOUNT  PAID  IBOP I   IEBOBS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80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166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824-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25780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520" y="867420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5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840" y="2436840"/>
            <a:ext cx="623556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BLOCK NUMBER______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41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43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45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520" y="852156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47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579132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49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51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53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55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00520" y="45576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840" y="2436840"/>
            <a:ext cx="6235560" cy="269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      BLOCK NUMBER______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6480" y="548496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60760" y="6703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9560" y="801036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1040" y="845820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541656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1040" y="5410080"/>
            <a:ext cx="623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57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59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9440" y="2443320"/>
            <a:ext cx="6490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    VOUCHER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    NUMBER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56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001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3987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0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4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00018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141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20" y="867420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 7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61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37880" y="6089760"/>
            <a:ext cx="635364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WITNESS WHEREOF, THE PARTIES HERETO HAVE EXECUTED THIS CONTRACT AS OF TH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ERED ON THE FIRST PAGE HERE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UNITED STATES OF AMERICA                      CONTR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S/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WENDELL PURCHASE, LTC, INF  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SMITH BROTHERS BLDG &amp; SUPPLY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NAME OF CONTRACTO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PURCHASING &amp; CONTRACTING OFFICER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BY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            /S/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OFFICIAL TITLE)                         (SIGNATU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PARTNER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TIT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ourier New"/>
              </a:rPr>
              <a:t>.                                                                            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HE FULL NAME AND BUSINESS ADDRESS OF THE CONTRACTOR MUST BE INSERTED IN THE SPACE PROVIDE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ACE OF THE FORM.  THE CONTRACTOR SHALL SIGN IN THE SPACE PROVIDED ABOVE WITH HIS USUAL SIGNATUR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YPEWRITE OR PRINT HIS NAME UNDER THE SIGNATU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520" y="8750160"/>
            <a:ext cx="665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63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9800" y="2443320"/>
            <a:ext cx="6285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ACCRUAL/EXPENSES-GENERAL  FUNCTION      BLOCK NUMBER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                     DOCUMENT            F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 EOR  APC   ODC       NUMBER             I    AMOUNT    NAME     FOREIG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URRENC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520" y="852156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65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 FUNCTION          BLOCK NUMBER______   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              OBS/   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520" y="852156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67 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69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71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9800" y="2443320"/>
            <a:ext cx="6285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73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31760" y="139680"/>
            <a:ext cx="658224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ARE IN THE BLOCK TOTAL FUNCTION                        SIC:   AV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*BTC  SRC  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                                 * TBO  ONL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LOCK       TYPE      C    JULIAN        TOTAL         PAY ST      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BER      ACTION     I     DATE        AMOUNT          ADSN     NUMBER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 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   ________    T   ________     _________      _________   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6708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19920" y="692280"/>
            <a:ext cx="0" cy="18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520" y="852156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1 AB                                                                                   75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800" y="2443320"/>
            <a:ext cx="62852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3080" y="571500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520" y="852156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77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06280" y="385920"/>
            <a:ext cx="3542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9800" y="2443320"/>
            <a:ext cx="6353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BY APC-TBO FUNCTION          BLOCK NUMBER______   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DOCUMENT/CUST    VOUCHER   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  YEAR   EOR  APC   ODC     NUMBER         NUMBER   I  AMOUNT IB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  __    ___  ___   ___   ___________     _______  ___ ______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520" y="852156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79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1960" y="385920"/>
            <a:ext cx="5393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    (FIRST 2 TRANSACTIONS ONL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39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1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2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791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*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120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DPA6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1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CPA01CA610336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_____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  99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 7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____  __  _____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520" y="867420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9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520" y="8597880"/>
            <a:ext cx="674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11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9440" y="2443320"/>
            <a:ext cx="64224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 - RDTE/MANHOUR  FUNCTION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1    SCR 0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  MAN                    DOCUMENT VOUCHER           #EMP       F   OBS/ 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  HRS  EOR  APC   ODC    NUMBER   NUMBER    AMOUNT  PAID  IBOP I   IEB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 ___  ____  ___  ____   ________  ____     _____  ____  ____  __  _____  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5562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20" y="8597880"/>
            <a:ext cx="6685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13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520" y="875016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15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7000" y="38592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0160" y="2443320"/>
            <a:ext cx="6148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56200" y="381492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080" y="5338800"/>
            <a:ext cx="730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080" y="23623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36844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3684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5080" y="601992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5638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2280" y="56386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8960" y="53352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8960" y="838080"/>
            <a:ext cx="45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9480" y="1219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9480" y="160020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6087960"/>
            <a:ext cx="6127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8069400"/>
            <a:ext cx="6021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0" y="875016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17 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7000" y="461880"/>
            <a:ext cx="3267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 OBLIGATION RUL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.   METHO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.   STAG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.   CODE THE TRANSACTION FOR STANFINS INPU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11240" y="60948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914400"/>
            <a:ext cx="433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5440" y="129528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25440" y="1676520"/>
            <a:ext cx="50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800" y="2436840"/>
            <a:ext cx="6148080" cy="296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DISB/COLL  FUNCTION       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DOCUMENT/CUST   VOUCHER  F                 OBS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APC   ODC   NUMBER         NUMBER   I   AMOUNT  IBOP DEOBS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 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 __   ____  ___  ____   ___________  _________  __  ________ ___  ____  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ESS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4560" y="5181480"/>
            <a:ext cx="509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6480" y="5491080"/>
            <a:ext cx="6148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YOU ARE IN THE OBLIG/GENERAL FUNCTION             BLOCK NUMBER______      SIC:  AV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FS 14    SCR 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  FISCAL                   DOCUMENT      L                    F  OBS/     CASH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CTION YEAR   EOR   APC    ODC  NUMBER        I     AMOUNT   NAME  C  DEOBS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_____  ___    ___  ____    ___  ________     ___   _______   _____ __  _____    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61120" y="6710400"/>
            <a:ext cx="2650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L IN ABOVE BLANKS AND PRESS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TER ONE OF THE FOLLOWING COMMAND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T” = SYSTEM ALTERNATIV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TC” = BLOCK TOTAL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” = MODE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FF” = LOG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R--” - BRANCH  TO (--IS MODE/FUNC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560" y="8018640"/>
            <a:ext cx="6094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SSAG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MD:  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520" y="8458200"/>
            <a:ext cx="6235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542304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7520" y="5410080"/>
            <a:ext cx="622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0" y="8610480"/>
            <a:ext cx="671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19                                                                                         Dec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10:01:06Z</dcterms:created>
  <dc:creator>Soldier Support Institute</dc:creator>
  <dc:description/>
  <dc:language>en-US</dc:language>
  <cp:lastModifiedBy>Administrator</cp:lastModifiedBy>
  <cp:lastPrinted>2001-01-11T18:15:05Z</cp:lastPrinted>
  <dcterms:modified xsi:type="dcterms:W3CDTF">2004-12-15T20:23:57Z</dcterms:modified>
  <cp:revision>80</cp:revision>
  <dc:subject/>
  <dc:title>BLOCK TOTAL RETURN</dc:title>
</cp:coreProperties>
</file>